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88CD76-57C3-46F7-ABA2-7CD3B51FE04A}" type="datetime">
              <a:rPr b="0" lang="en-US" sz="1200" spc="-1" strike="noStrike">
                <a:solidFill>
                  <a:srgbClr val="000000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35881E-F155-4036-BF1D-24B2B386F2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p by Alexander Sayer Gard-Murr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480AD1-193E-431D-987A-F783359BCAE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rmany in Defeat. Map by Alexander Sayer Gard-Murr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2886F03-2A9E-43AA-88F2-A5CA0FDA8D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rman Losses Overseas 1919. Map by Alexander Sayer Gard-Murr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68BD1DD-7B73-4150-A34E-0A4D964054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AED0-8105-4B0B-B282-535CEB22A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3440-9BB0-40E6-BFC1-38DDDD80F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8A94D-4DB1-4C50-B9F4-2FEB02393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B5FD-EDED-4B63-96E8-8BC7BD37F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54FFC-2157-405A-AD17-7A6D4698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B4BAB-6BEC-4EF2-BA05-5C2BE78D2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C033-A9B1-46C5-9635-C6076384A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AD32E-2EA8-4654-AE6C-96580B952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3D89-B831-4CB5-9DDB-57AA08F87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0E873-749B-43C6-BCF3-70F6D382F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78FEC-1147-47E9-8A82-792847FC4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69453-8B3D-49B0-8C4C-367F34AD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CE95345-1C97-44C3-AD24-70DB4637307D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3236DAC-809C-4C57-BDDC-EEF5A613706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50" name="Picture 3" descr="Europe New.png"/>
          <p:cNvPicPr/>
          <p:nvPr/>
        </p:nvPicPr>
        <p:blipFill>
          <a:blip r:embed="rId1"/>
          <a:stretch/>
        </p:blipFill>
        <p:spPr>
          <a:xfrm>
            <a:off x="297000" y="533520"/>
            <a:ext cx="8618400" cy="56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Content Placeholder 3" descr="Germany in Defeat.png"/>
          <p:cNvPicPr/>
          <p:nvPr/>
        </p:nvPicPr>
        <p:blipFill>
          <a:blip r:embed="rId1"/>
          <a:srcRect l="-20048" t="0" r="-20048" b="0"/>
          <a:stretch/>
        </p:blipFill>
        <p:spPr>
          <a:xfrm>
            <a:off x="-1219320" y="76320"/>
            <a:ext cx="11499840" cy="63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Content Placeholder 3" descr="Overseas Possessions.png"/>
          <p:cNvPicPr/>
          <p:nvPr/>
        </p:nvPicPr>
        <p:blipFill>
          <a:blip r:embed="rId1"/>
          <a:srcRect l="-9834" t="0" r="-9834" b="0"/>
          <a:stretch/>
        </p:blipFill>
        <p:spPr>
          <a:xfrm>
            <a:off x="-685800" y="380880"/>
            <a:ext cx="10445760" cy="5745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07T15:58:14Z</dcterms:created>
  <dc:creator>Watson Institute</dc:creator>
  <dc:description/>
  <dc:language>en-US</dc:language>
  <cp:lastModifiedBy>Jillian McGuire</cp:lastModifiedBy>
  <dcterms:modified xsi:type="dcterms:W3CDTF">2009-07-07T18:49:32Z</dcterms:modified>
  <cp:revision>2</cp:revision>
  <dc:subject/>
  <dc:title>Slide 1</dc:title>
</cp:coreProperties>
</file>